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A3B3-B69C-419B-A4E3-2082383F9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728B-9019-4D91-8BAA-C0E5AEF52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FDFD-9CE0-4276-8742-60806AF95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7405-9AEB-4655-9A8C-7D06CADAC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318E1-BDB1-46F7-B16B-EC33E7638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5C516-3CB1-478C-9554-D61B5D931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2894E-FC2D-489E-B6D4-25BC4766E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AE401-EAA8-44BB-88E9-0A01CE88E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D8CCE-6F9A-499A-B6BA-ACA3E0B7D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3B9B8-252D-4EB5-868E-C7B9FB09A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4E314-98A4-4AC8-AC45-BD99C76E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61E5-1E80-4D5D-9E8C-B5745FD4D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D455D-EF93-48B5-A6FC-6344A35D9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D873A-F2F6-4827-829E-E0FE50AF4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58006-0A40-4B33-8691-D3E4F3D24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9D365-2B73-4E53-A51E-B4E5A3E9F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182C3-22E8-4778-94BA-C669E6896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0B93-5BB5-4900-9762-7F263A476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7428-24D2-47B7-ADB6-AE8002E61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2220-C39A-4607-89BF-76471B530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5AA6-6FCB-488D-93A1-8668DEDB0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E449-EF00-4103-B201-B5B269428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707D-50B9-41BE-A30C-B89A9958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74C7-F6C1-4C46-AEF6-CE731039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37B1C-8760-4788-B864-CFF910F4CF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F452F-D449-4A44-AC75-E35E315A76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ff"/>
                </a:solidFill>
                <a:latin typeface="Comic Sans MS"/>
              </a:rPr>
              <a:t>Les t</a:t>
            </a:r>
            <a:r>
              <a:rPr b="1" lang="en-US" sz="7200" spc="-1" strike="noStrike">
                <a:solidFill>
                  <a:srgbClr val="0066ff"/>
                </a:solidFill>
                <a:latin typeface="Comic Sans MS"/>
                <a:ea typeface="Arial"/>
              </a:rPr>
              <a:t>é</a:t>
            </a:r>
            <a:r>
              <a:rPr b="1" lang="en-US" sz="7200" spc="-1" strike="noStrike">
                <a:solidFill>
                  <a:srgbClr val="0066ff"/>
                </a:solidFill>
                <a:latin typeface="Comic Sans MS"/>
              </a:rPr>
              <a:t>l</a:t>
            </a:r>
            <a:r>
              <a:rPr b="1" lang="en-US" sz="7200" spc="-1" strike="noStrike">
                <a:solidFill>
                  <a:srgbClr val="0066ff"/>
                </a:solidFill>
                <a:latin typeface="Comic Sans MS"/>
                <a:ea typeface="Arial"/>
              </a:rPr>
              <a:t>é</a:t>
            </a:r>
            <a:r>
              <a:rPr b="1" lang="en-US" sz="7200" spc="-1" strike="noStrike">
                <a:solidFill>
                  <a:srgbClr val="0066ff"/>
                </a:solidFill>
                <a:latin typeface="Comic Sans MS"/>
              </a:rPr>
              <a:t>visions en France</a:t>
            </a:r>
            <a:endParaRPr b="1" lang="en-US" sz="7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514600" y="3352680"/>
            <a:ext cx="40384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Programmes du canal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257800" y="1828440"/>
            <a:ext cx="3200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é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is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eunes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3486240" cy="46483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7010280" y="304920"/>
            <a:ext cx="2133720" cy="8794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8534520" y="6324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0818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38862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Les info 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e journal de 13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e journal de 20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e Journal du week-e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e blog polit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562720" y="0"/>
            <a:ext cx="3581280" cy="19382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04920" y="4191120"/>
            <a:ext cx="3504960" cy="18986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4114800" y="2209680"/>
            <a:ext cx="3352680" cy="18860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5257800" y="4495680"/>
            <a:ext cx="3581280" cy="20145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3429000" y="380880"/>
            <a:ext cx="1981080" cy="8175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6"/>
          <a:stretch/>
        </p:blipFill>
        <p:spPr>
          <a:xfrm>
            <a:off x="2209680" y="5181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10818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124080" y="27756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Vous offre: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306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2 séries T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2 émissions TV t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è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 i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é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san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 magazines d'infor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2 programmes jeunesse rigo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762120" y="304920"/>
            <a:ext cx="2133360" cy="8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urlz MT"/>
                <a:ea typeface="Arial"/>
              </a:rPr>
              <a:t>É</a:t>
            </a:r>
            <a:r>
              <a:rPr b="0" lang="en-US" sz="4400" spc="-1" strike="noStrike">
                <a:solidFill>
                  <a:srgbClr val="ff0000"/>
                </a:solidFill>
                <a:latin typeface="Curlz MT"/>
              </a:rPr>
              <a:t>missions TV</a:t>
            </a:r>
            <a:br>
              <a:rPr sz="4400"/>
            </a:b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3124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Comic Sans MS"/>
              </a:rPr>
              <a:t>Koh-Lan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Comic Sans MS"/>
              </a:rPr>
              <a:t>Petits Plats en Equilib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Comic Sans MS"/>
              </a:rPr>
              <a:t>50 mn insi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Comic Sans MS"/>
              </a:rPr>
              <a:t>Sept à hu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Comic Sans MS"/>
              </a:rPr>
              <a:t>Football - Equipe de Fr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Comic Sans MS"/>
              </a:rPr>
              <a:t>Automo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Comic Sans MS"/>
              </a:rPr>
              <a:t>Téléfoo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Comic Sans MS"/>
              </a:rPr>
              <a:t>Reportag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Comic Sans MS"/>
              </a:rPr>
              <a:t>10H Le Ma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Comic Sans MS"/>
              </a:rPr>
              <a:t>C'est quoi l'amour 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Comic Sans MS"/>
              </a:rPr>
              <a:t>Attention à la marche 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Comic Sans MS"/>
              </a:rPr>
              <a:t>Au coeur du cri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Comic Sans MS"/>
              </a:rPr>
              <a:t>Election de Miss Fr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Comic Sans MS"/>
              </a:rPr>
              <a:t>Les enfants de la télé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Comic Sans MS"/>
              </a:rPr>
              <a:t>Téléshopp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Comic Sans MS"/>
              </a:rPr>
              <a:t>Appels d'urge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Comic Sans MS"/>
              </a:rPr>
              <a:t>Le juste pri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Comic Sans MS"/>
              </a:rPr>
              <a:t>Petites sta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Comic Sans MS"/>
              </a:rPr>
              <a:t>Sans aucun dou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981080" cy="8175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6019920" y="1066680"/>
            <a:ext cx="2743200" cy="15433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3048120" y="3657600"/>
            <a:ext cx="2590560" cy="14572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5943600" y="3048120"/>
            <a:ext cx="2743200" cy="15429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5867280" y="4952880"/>
            <a:ext cx="2819520" cy="15861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6"/>
          <a:stretch/>
        </p:blipFill>
        <p:spPr>
          <a:xfrm>
            <a:off x="2971800" y="1600200"/>
            <a:ext cx="266688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5328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La une </a:t>
            </a:r>
            <a:br>
              <a:rPr sz="4000"/>
            </a:br>
            <a:r>
              <a:rPr b="0" lang="en-US" sz="4000" spc="-1" strike="noStrike">
                <a:solidFill>
                  <a:srgbClr val="ff7c80"/>
                </a:solidFill>
                <a:latin typeface="Curlz MT"/>
              </a:rPr>
              <a:t>Petites stars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ff"/>
                </a:solidFill>
                <a:latin typeface="Comic Sans MS"/>
              </a:rPr>
              <a:t>Un concours de talents pas comme les autres, où vous allez être épatés !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ff"/>
                </a:solidFill>
                <a:latin typeface="Comic Sans MS"/>
              </a:rPr>
              <a:t>Tout au long de la soirée, vous découvrirez 8 enfants hors du commun. Agés de 7 à 12 ans, ils ont tous le chant et la musique dans le sang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172200" y="0"/>
            <a:ext cx="2971800" cy="14032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762120" y="304920"/>
            <a:ext cx="2133360" cy="8794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4114800" y="365760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6477120" y="3733920"/>
            <a:ext cx="2333520" cy="2862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304920" y="441972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00400" y="456840"/>
            <a:ext cx="5410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est un cha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  <a:ea typeface="Arial"/>
              </a:rPr>
              <a:t>îne tr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è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  <a:ea typeface="Arial"/>
              </a:rPr>
              <a:t>s int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é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  <a:ea typeface="Arial"/>
              </a:rPr>
              <a:t>ressante qui a 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beaucoup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  <a:ea typeface="Arial"/>
              </a:rPr>
              <a:t> d’informations pour tout 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les âges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.</a:t>
            </a:r>
            <a:br>
              <a:rPr sz="4400"/>
            </a:br>
            <a:br>
              <a:rPr sz="4400"/>
            </a:br>
            <a:br>
              <a:rPr sz="4400"/>
            </a:b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371600" y="457200"/>
            <a:ext cx="1525680" cy="6285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990720" y="3656520"/>
            <a:ext cx="6172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Comic Sans MS"/>
              </a:rPr>
              <a:t>P</a:t>
            </a:r>
            <a:r>
              <a:rPr b="0" lang="ro-RO" sz="3200" spc="-1" strike="noStrike">
                <a:solidFill>
                  <a:srgbClr val="feec94"/>
                </a:solidFill>
                <a:latin typeface="Comic Sans MS"/>
              </a:rPr>
              <a:t>our développer votre vocabulaire</a:t>
            </a:r>
            <a:r>
              <a:rPr b="0" lang="en-US" sz="3200" spc="-1" strike="noStrike">
                <a:solidFill>
                  <a:srgbClr val="feec94"/>
                </a:solidFill>
                <a:latin typeface="Comic Sans MS"/>
              </a:rPr>
              <a:t> vous deve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Comic Sans MS"/>
              </a:rPr>
              <a:t>regar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715000" y="4952880"/>
            <a:ext cx="320040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oana</cp:lastModifiedBy>
  <dcterms:modified xsi:type="dcterms:W3CDTF">2009-10-22T15:28:20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